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6C9-0285-4867-93AB-59DCA15F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414-9BA1-40F5-96CE-DD6832E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9464B-24BC-49F8-8A9F-8EBFB60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5A057-1470-4969-817E-9540810E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088F-B402-4716-A474-C6EEC7B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E89BB-4C5F-43C9-90FA-70F28A5A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75CD7-D68E-4704-83AE-486EF5B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22D7F-7C38-471E-951D-278F10A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6D23D-E7E3-4CDD-92E7-DB634C83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E5652-0781-4940-A1C7-DC410383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3FCE8-EB07-428C-855B-21677623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913-D021-4263-A9D3-F6E600A7A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137-181C-42EA-8782-2D6F2266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837F-62E7-428E-9721-3FC0DAC3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14BC-C98D-4D9C-8145-8918629F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006F-CD1A-4505-9234-2CCBF2D6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EFB5-F1D9-4299-B6E1-23BC521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D567-E07B-4C03-A599-65855F8A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09CE-0533-4181-9DED-4E7C733D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4573-59A1-47E2-B79A-CB641089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90E-6CB3-4704-8074-29A2790E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394-6BD4-4DF8-A051-2AD7E5F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ED32-9828-4794-A69E-6195C729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28C-71E6-40C3-A7EA-3A2650B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F1EC-0A66-4BB2-B557-1B9916C7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7045-FBC9-4E78-9568-8D852533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BCF6-BF5B-4922-BE2B-976AB6BC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D95AD-5D52-4565-A07D-2AFC18FE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CFE4-9A96-405D-9F88-E303AB49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8BD4-C8B8-4C50-B714-276EBE4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1CC1-AB39-4B69-B90A-06A6BC3F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413-D95E-4DEB-AA9F-18EA9A84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BC05-DF53-4309-ABE3-CBC62E3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9CFF-DC0D-4312-B092-D48B442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7249-A925-4099-AEBC-C941D73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B154-C245-4B9B-86DE-3348E4B0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6A78-291E-4A00-A65B-ECEA6761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AC12-ECB0-46FA-BA7F-471D1218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6BC7-C315-4391-9891-5D872929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0F85-7FDD-4665-BF74-5C6B97D9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3325E-9F61-4C32-8178-D64A3D70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9D2C-2C36-493C-92CE-25D19F0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5FB-0C50-481A-B76C-0D0156A7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115A6-1CAD-40AB-B659-B4D36376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EF22-501E-476D-B2ED-D4964E4B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74C9-22AB-4410-84E7-AC07CD25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54A2-92AB-48FF-9E41-E4658C2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B6AB-736F-42CF-825A-71DC5995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8682-50CE-48ED-AD57-C650B39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B188-C952-4621-91DC-1ACC48A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08D3A-D747-462D-9458-00A12D35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7632-A436-46D7-A9B6-878DD019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2D127-EE0F-4A7F-9815-27F99951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2D35-BD73-4492-BDDC-346F1CDE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32A70-0581-4599-AC40-5D6B329A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B242-06FD-478A-933F-5255EC2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491A-F115-47A9-9D2F-A8442F10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6E5B-42B0-4378-9B98-D7F4020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B180-5D1B-4001-A85A-1664AF74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961F8-915D-4BAA-A342-7825742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1CDF-0592-44B4-BDB3-E4D180DC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EC2A-E2EE-40F4-B23E-0CA5EF8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E16D-902E-4B46-B931-5DB739FB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7B82-7C39-40CD-93DB-6F665898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224-6D57-4FA8-A0E7-1700BEC9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1B23-950F-4D6A-90B2-2296309E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AC3C-0673-4347-B2CB-EA59932D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6FAB4-C41D-4EF5-942B-FC73ABE9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A7ED5-BD98-461A-8ABB-13989DB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B10F-BE15-46E7-B5CC-6A39FC00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47266-6337-4637-8B9E-D2754D6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AE5CD-B5D8-429F-A741-2E6FFF2F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3B8C7-63D9-482F-8129-0CB72CCE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18F63-A943-4E8F-AB52-311E3D6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C3C93-F208-4E5E-946A-67D9CD3F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1D7-6D68-4CC1-BBC4-3AE1ED6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2291D-3AFE-4305-B19B-60AC9781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2FCB-DFFE-41C8-8AA9-19B97FBE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6E254-24AB-4087-87DB-3EC2B620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A5E7-2B08-487F-A922-8483BA5B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7C29-AAE7-42F7-87B2-C5A349CD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86F99-B616-4E7A-A46E-C31E8F65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31263-5B83-43F3-9F9E-D58DB0F7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16FA-8813-41C0-97D5-2DA88703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321D7-8558-4E60-BA0A-AFE8662D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A483E-9F68-4D72-A8F5-50DD90B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161-CC5B-42F4-A56D-A464AC2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A3465-B5EE-4590-A66E-111A5D1D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2B610-708F-4280-A17E-539BEE1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8EB9B-63BB-4861-9D73-C2482DBA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38972-6315-47F3-B168-BCB27F5E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771F-665C-4F39-9D67-BF8D15F4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F1F9B-8D19-482D-B24F-5BEA5236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5E81B-1A75-495E-90A2-87AE5B9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D7C96-AA64-4FE5-8EB7-32E93364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5C0CF-74D0-4330-B84F-71122B03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AD5D0-9BE7-425C-A3F4-7170EB6E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F2-F434-41C4-83B2-B76A3D1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F1453-7410-4792-B9CD-7A476090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E41F-9774-4928-87E1-990EE492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CB290-A293-4E9F-88ED-DCBAF9E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958D6-A67D-4E72-9BD2-FC2820B4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A785-BD16-4914-AFF2-C2226809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B99A-D5A0-4D10-8BB5-46471409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4D40-1A16-4D6E-A7CD-13ED4B65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7E5B6-5DD9-49C2-87CF-0AE26A76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099BC-A57D-4CF8-B274-BF3F574E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5299E-C3E2-40A6-95FF-3E947B77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959F-6918-44A9-8821-94D76A06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8C4F-4B13-4E36-9194-45C49BFB4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C5C7-9C2E-4C04-AE7C-271D88EE8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5CC6-9D45-47B0-BB7A-61104FD2B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9307-7E68-41A8-BCE1-6BA38567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B4A-C3C6-4380-92D7-BE0ADAC27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B259-C1D6-42EE-9743-A5A6DE11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0A95-0AAC-4F5E-93A6-60FF34CD4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F568-0F63-4994-ADB7-FF0148864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11.4: Solving quadratic inequalities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quadratic inequality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quadratic inequality algebra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leeding Cowboys"/>
              </a:rPr>
              <a:t>How do you write quadratic inequalities?</a:t>
            </a:r>
            <a:endParaRPr b="0" lang="en-US" sz="40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adratic inequality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an be replaced by &l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, or ≤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leeding Cowboys"/>
              </a:rPr>
              <a:t>How do you solve quadratic inequalities graphically?</a:t>
            </a:r>
            <a:endParaRPr b="0" lang="en-US" sz="40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&gt;,&lt;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, or ≤ to an =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 like we did in the last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d the part of the graph that makes the inequality true (ie, when is y greater than 0 or less than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Check this out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x+3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ex x coordinate = -b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 -(-4)/2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4/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to find the y coordinate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(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(2)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4-8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symmetric points at x=0 and x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 in x=0, and find y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486400" y="1752480"/>
          <a:ext cx="32400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752480"/>
                    <a:ext cx="32400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5562720" y="1752480"/>
          <a:ext cx="3105000" cy="318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1752480"/>
                    <a:ext cx="3105000" cy="31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486400" y="1752480"/>
          <a:ext cx="3090960" cy="3171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1752480"/>
                    <a:ext cx="30909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Solving algebraically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like you would algebraically – these are called critic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determine what values would make the whole equation positive or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Try these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-3)(x+1)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-5)(x+7)&lt;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leeding Cowboys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66-767 #2-2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1:42:31Z</dcterms:created>
  <dc:creator>nuhs</dc:creator>
  <dc:description/>
  <dc:language>en-US</dc:language>
  <cp:lastModifiedBy>nuhs</cp:lastModifiedBy>
  <dcterms:modified xsi:type="dcterms:W3CDTF">2007-12-05T21:19:23Z</dcterms:modified>
  <cp:revision>5</cp:revision>
  <dc:subject/>
  <dc:title>11.4: Solving quadratic inequalities</dc:title>
</cp:coreProperties>
</file>